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FE5-DD14-4C85-A725-D0E1DB64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F0F-E47D-44C1-B5A9-D81E68B3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D0E-3933-418F-B7C0-429AB443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2D7-A394-49EA-BD88-A0E91E40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85CD-EE2D-4E5E-8D68-77143636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F60-C14F-480C-9FF9-182F6318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E83-D483-4D1A-A199-828A82B7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B5B-C0FE-49B2-B29F-0B0A8964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481-D7D8-44A7-AE12-64D1AA27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12B-95F5-4D89-87EE-9CC5AD0F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9FF-24C1-41E5-9BE6-5323BCE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5C6-6CC5-4FE0-B56B-EF8BEB9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A00C-9FCA-4A8D-B9C2-58F302230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FySmS9_y_0&amp;feature=results_video&amp;playnext=1&amp;list=PL94C0104A7008C184%2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bistar.4teachers.org/index.ph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bl-online.org/ProjectPlanning/worddocs/ProjectPlanningForms.doc" TargetMode="External"/><Relationship Id="rId2" Type="http://schemas.openxmlformats.org/officeDocument/2006/relationships/hyperlink" Target="http://pbl-online.org/ProjectPlanning/worddocs/ProjectPlanningForms.doc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08080"/>
            <a:ext cx="9144000" cy="464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76520" y="228600"/>
            <a:ext cx="582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ject Based Lear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ubr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ri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s a set of careful descriptors that define different levels of quality in a particular piece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792504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ubric Character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, reliable and obje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it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the tas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easily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understood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by students and all who use 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s supported by “anchoring”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f high quality 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Planning Instru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lang="en-US" sz="4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lans</a:t>
            </a:r>
            <a:r>
              <a:rPr b="0" lang="en-US" sz="33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clear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sider your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ncepts, skills, driving question, and assessment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ke sure you address your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5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0"/>
          <p:cNvGrpSpPr/>
          <p:nvPr/>
        </p:nvGrpSpPr>
        <p:grpSpPr>
          <a:xfrm>
            <a:off x="457200" y="1981080"/>
            <a:ext cx="8229600" cy="4267440"/>
            <a:chOff x="457200" y="1981080"/>
            <a:chExt cx="8229600" cy="4267440"/>
          </a:xfrm>
        </p:grpSpPr>
        <p:sp>
          <p:nvSpPr>
            <p:cNvPr id="82" name="AutoShape 19"/>
            <p:cNvSpPr/>
            <p:nvPr/>
          </p:nvSpPr>
          <p:spPr>
            <a:xfrm>
              <a:off x="3449880" y="2916000"/>
              <a:ext cx="2176200" cy="2251800"/>
            </a:xfrm>
            <a:custGeom>
              <a:avLst/>
              <a:gdLst>
                <a:gd name="textAreaLeft" fmla="*/ 106200 w 2176200"/>
                <a:gd name="textAreaRight" fmla="*/ 2070000 w 2176200"/>
                <a:gd name="textAreaTop" fmla="*/ 106200 h 2251800"/>
                <a:gd name="textAreaBottom" fmla="*/ 2145600 h 2251800"/>
              </a:gdLst>
              <a:ahLst/>
              <a:rect l="textAreaLeft" t="textAreaTop" r="textAreaRight" b="textAreaBottom"/>
              <a:pathLst>
                <a:path w="21600" h="22350">
                  <a:moveTo>
                    <a:pt x="3600" y="0"/>
                  </a:moveTo>
                  <a:arcTo wR="3600" hR="3600" stAng="16200000" swAng="-5400000"/>
                  <a:lnTo>
                    <a:pt x="0" y="18750"/>
                  </a:lnTo>
                  <a:arcTo wR="3600" hR="3600" stAng="10800000" swAng="-5400000"/>
                  <a:lnTo>
                    <a:pt x="18000" y="223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d8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ign Principle #1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gin with th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nd in Mi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Group 10"/>
            <p:cNvGrpSpPr/>
            <p:nvPr/>
          </p:nvGrpSpPr>
          <p:grpSpPr>
            <a:xfrm>
              <a:off x="457200" y="1981080"/>
              <a:ext cx="8229600" cy="4267440"/>
              <a:chOff x="457200" y="1981080"/>
              <a:chExt cx="8229600" cy="4267440"/>
            </a:xfrm>
          </p:grpSpPr>
          <p:sp>
            <p:nvSpPr>
              <p:cNvPr id="84" name="AutoShape 21"/>
              <p:cNvSpPr/>
              <p:nvPr/>
            </p:nvSpPr>
            <p:spPr>
              <a:xfrm rot="11268600">
                <a:off x="2401200" y="2377080"/>
                <a:ext cx="1500840" cy="2849760"/>
              </a:xfrm>
              <a:custGeom>
                <a:avLst/>
                <a:gdLst>
                  <a:gd name="textAreaLeft" fmla="*/ 200880 w 1500840"/>
                  <a:gd name="textAreaRight" fmla="*/ 1299960 w 1500840"/>
                  <a:gd name="textAreaTop" fmla="*/ 498600 h 2849760"/>
                  <a:gd name="textAreaBottom" fmla="*/ 2066040 h 284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2f2f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4832640" y="2663640"/>
                <a:ext cx="1500840" cy="2849760"/>
              </a:xfrm>
              <a:custGeom>
                <a:avLst/>
                <a:gdLst>
                  <a:gd name="textAreaLeft" fmla="*/ 200880 w 1500840"/>
                  <a:gd name="textAreaRight" fmla="*/ 1299960 w 1500840"/>
                  <a:gd name="textAreaTop" fmla="*/ 498600 h 2849760"/>
                  <a:gd name="textAreaBottom" fmla="*/ 2066040 h 284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f2f2f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18"/>
              <p:cNvSpPr/>
              <p:nvPr/>
            </p:nvSpPr>
            <p:spPr>
              <a:xfrm>
                <a:off x="457200" y="1981440"/>
                <a:ext cx="2728800" cy="186912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ign Principle #5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nage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c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17"/>
              <p:cNvSpPr/>
              <p:nvPr/>
            </p:nvSpPr>
            <p:spPr>
              <a:xfrm>
                <a:off x="457200" y="4401360"/>
                <a:ext cx="2748600" cy="184716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ign Principle #4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ap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Proces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AutoShape 16"/>
              <p:cNvSpPr/>
              <p:nvPr/>
            </p:nvSpPr>
            <p:spPr>
              <a:xfrm>
                <a:off x="5947920" y="1981080"/>
                <a:ext cx="2699280" cy="186948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ign Principle #2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velop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riving Question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AutoShape 15"/>
              <p:cNvSpPr/>
              <p:nvPr/>
            </p:nvSpPr>
            <p:spPr>
              <a:xfrm>
                <a:off x="5947920" y="4401360"/>
                <a:ext cx="2738880" cy="181440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esign Principle #3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lan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Assessment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desir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important for students to do, know, per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enduring understandings that are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driving / essential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about the evidence of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you measure their understan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llective evidence using a variety of formal and informal assessments will you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he learning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real-world topic and begin an in-depth inves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ctivities will help the students gain the knowledge and skills you have identifi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trategies will you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enefits of PB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children to use thei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arning str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-world way to learn and use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portunities to construc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s and apply social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problem 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creat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discip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ject-based Learning: Wh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udents learn best whe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 are engaged in what they are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 are learning about things that are important to th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1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y know what is expected of th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I Plan for PB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95480"/>
            <a:ext cx="20574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Desire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3930480"/>
            <a:ext cx="281952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Acceptable Evidence (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997520"/>
            <a:ext cx="281952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Learning Experiences an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3429000"/>
            <a:ext cx="990720" cy="38088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724280"/>
            <a:ext cx="990720" cy="38124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156360"/>
            <a:ext cx="44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cTighe J., Wiggins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992160" y="528480"/>
            <a:ext cx="7159680" cy="4278600"/>
            <a:chOff x="992160" y="528480"/>
            <a:chExt cx="7159680" cy="4278600"/>
          </a:xfrm>
        </p:grpSpPr>
        <p:sp>
          <p:nvSpPr>
            <p:cNvPr id="54" name="_s6151"/>
            <p:cNvSpPr/>
            <p:nvPr/>
          </p:nvSpPr>
          <p:spPr>
            <a:xfrm>
              <a:off x="3486240" y="1287360"/>
              <a:ext cx="2171520" cy="2171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6152"/>
            <p:cNvSpPr/>
            <p:nvPr/>
          </p:nvSpPr>
          <p:spPr>
            <a:xfrm>
              <a:off x="3703680" y="528480"/>
              <a:ext cx="17366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6153"/>
            <p:cNvSpPr/>
            <p:nvPr/>
          </p:nvSpPr>
          <p:spPr>
            <a:xfrm>
              <a:off x="4202280" y="2527200"/>
              <a:ext cx="2171520" cy="2171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6154"/>
            <p:cNvSpPr/>
            <p:nvPr/>
          </p:nvSpPr>
          <p:spPr>
            <a:xfrm>
              <a:off x="6415200" y="4264200"/>
              <a:ext cx="17366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6155"/>
            <p:cNvSpPr/>
            <p:nvPr/>
          </p:nvSpPr>
          <p:spPr>
            <a:xfrm>
              <a:off x="2770200" y="2527200"/>
              <a:ext cx="2171520" cy="2171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6156"/>
            <p:cNvSpPr/>
            <p:nvPr/>
          </p:nvSpPr>
          <p:spPr>
            <a:xfrm>
              <a:off x="992160" y="4264200"/>
              <a:ext cx="17366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 Your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dentify standard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tate the key understanding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tate the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riving ques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escribe the skills and knowledg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Driving / 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Has no obvious or correct answ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an be answered by students with some work and resear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s important and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nnected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to the real worl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8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and non-judgmental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Driving / Essential Ques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y is it bad to eat too much fa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How do we know if our school is safe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206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makes an effective advertisement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reful evalu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what a student knows and is able to do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951280"/>
            <a:ext cx="52578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mative &amp; Summative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2b9"/>
                </a:solidFill>
                <a:latin typeface="Arial"/>
              </a:rPr>
              <a:t>Form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essments guide instruction and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b2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b2b9"/>
                </a:solidFill>
                <a:latin typeface="Arial"/>
              </a:rPr>
              <a:t>Summ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essments check for mas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3657600"/>
            <a:ext cx="655344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need a mix of bo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nd quiz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&amp; Extende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80808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3:38:39Z</dcterms:created>
  <dc:creator>setup</dc:creator>
  <dc:description/>
  <dc:language>en-US</dc:language>
  <cp:lastModifiedBy>setup</cp:lastModifiedBy>
  <dcterms:modified xsi:type="dcterms:W3CDTF">2011-11-02T18:33:30Z</dcterms:modified>
  <cp:revision>6</cp:revision>
  <dc:subject/>
  <dc:title>Project Based Learning </dc:title>
</cp:coreProperties>
</file>